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31083-8EE0-41FF-AF19-3BCD74B04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116E5-3B62-4EA1-9CF6-BC92AE390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45A50-A148-46DF-98A2-F5287D681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79479-F4AC-43BF-8478-1BB79E336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18B12-905A-4F52-BDBA-CA42B6B09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8882C-64D8-4B95-9791-C5BDA32A4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D0105-E64B-409D-B010-582695196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B7469-214B-47B2-AA2C-5E4B82300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B203A-BC42-4F3C-920B-E4BA746DA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E9F81-D0D6-493F-AF15-861EA1DBE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A0F5F-944F-4E20-9290-B6C185890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C23D4-FE4A-4D48-B1FA-2CEB61649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5D149-7C86-4B76-B189-45CF7B660E85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القيادة وشحذ الهم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الفرق بين القيادة والادار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أ. منار الفرا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A8FBA-E129-4DDC-90D8-28DCE8AD439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من هو القائد التحويلي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r" rtl="1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0000"/>
                </a:solidFill>
                <a:latin typeface="Times New Roman"/>
              </a:rPr>
              <a:t>طريقة تفكيره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r" rtl="1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0000"/>
                </a:solidFill>
                <a:latin typeface="Times New Roman"/>
              </a:rPr>
              <a:t>يرى في نفسه شخص له رؤية مستقبلية وصاحب رسالة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r" rtl="1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0000"/>
                </a:solidFill>
                <a:latin typeface="Times New Roman"/>
              </a:rPr>
              <a:t>انه يعتقد بأن دورة هو نقل الناس من حوله نقلة حضارية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r" rtl="1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0000"/>
                </a:solidFill>
                <a:latin typeface="Times New Roman"/>
              </a:rPr>
              <a:t>لدية أهداف عالية ومعايير مرتفعة وهذا يجعله يتمتع باحترام الآخرين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r" rtl="1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0000"/>
                </a:solidFill>
                <a:latin typeface="Times New Roman"/>
              </a:rPr>
              <a:t>لدية ثقة ذاتية عالية وإصرار ذاتي عالى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r" rtl="1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0000"/>
                </a:solidFill>
                <a:latin typeface="Times New Roman"/>
              </a:rPr>
              <a:t>يقدم حلول جذرية لتابعيه وأحيانا حلول جذرية متطرفة لمشاكلهم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r" rtl="1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0000"/>
                </a:solidFill>
                <a:latin typeface="Times New Roman"/>
              </a:rPr>
              <a:t>عندما يتكلم يتصل بعيون تابعية ويجعله يمارس التنويم المغناطيسي عليهم ويستطيع أن يعبر عن مشاعر تابعية أفضل منهم انفسهم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r" rtl="1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0000"/>
                </a:solidFill>
                <a:latin typeface="Times New Roman"/>
              </a:rPr>
              <a:t>جاذبية شخصية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risma</a:t>
            </a:r>
            <a:r>
              <a:rPr b="0" lang="ar-SA" sz="1600" spc="-1" strike="noStrike">
                <a:solidFill>
                  <a:srgbClr val="000000"/>
                </a:solidFill>
                <a:latin typeface="Times New Roman"/>
              </a:rPr>
              <a:t> وقدرة الهامية ويمكن أن تفسر أحيانا بالأنانية. يستفيد القائد من قوته ومركزة في عيون تابعية حيث يحبه الآخرون ويتبعوه . اذا كانت الجاذبية الشخصية موجهة لتحقيق أهداف المجموعة= قدرة الهامية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r" rtl="1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0000"/>
                </a:solidFill>
                <a:latin typeface="Times New Roman"/>
              </a:rPr>
              <a:t>ان ثقة التابعين بالمدير نابعة من المعنى الذي يعطيه القائد لحاجات تابعية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r" rtl="1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0000"/>
                </a:solidFill>
                <a:latin typeface="Times New Roman"/>
              </a:rPr>
              <a:t>يستثير فكر تابعية لتقديم أهداف وأفكار جديدة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r" rtl="1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0000"/>
                </a:solidFill>
                <a:latin typeface="Times New Roman"/>
              </a:rPr>
              <a:t>يعطي اهتمام عال لكل الناس ويعطي رعاية خاصة على المستوى الفردي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r" rtl="1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0000"/>
                </a:solidFill>
                <a:latin typeface="Times New Roman"/>
              </a:rPr>
              <a:t>يرقى برغبات تابعية. فإذا تحدث التابعين عن حاجاتهم الفسيولوجية فانه يدعوهم للتفكير بحاجاتهم الاجتماعية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r" rtl="1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0000"/>
                </a:solidFill>
                <a:latin typeface="Times New Roman"/>
              </a:rPr>
              <a:t>يحقق دافعية أقوى عند التابعين وأداء أكبر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أ. منار الفرا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77FDC-3848-4E89-9C10-5CB6957635A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خصائص القائد التحويل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542160" indent="-542160" algn="r" rtl="1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ينظر القائد الى نفسه على أنه وكيل تغيير والتغيير في نظرة رحلة وليست نقطة وصول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2160" indent="-542160" algn="r" rtl="1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شجاع محب للمخاطر المحسوب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2160" indent="-542160" algn="r" rtl="1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يؤمن بقيمة الناس، ليس دكتاتورا، يعزز الموظفين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2160" indent="-542160" algn="r" rtl="1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موجه بالقيم الأخلاقية، يخلق حضارة الانجاز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2160" indent="-542160" algn="r" rtl="1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يتعلم طول العمر وينظر الى الخطأ على أنه تجربة استفاد منها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2160" indent="-542160" algn="r" rtl="1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قادر على التعامل مع الغموض والمواقف المعقد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2160" indent="-542160" algn="r" rtl="1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صاحب رؤية وقادر على ترجمتها للآخرين ليشاركوة فيها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أ. منار الفرا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ED52D-8466-4D38-A367-E6503ED0E27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مهام القائد التحويلي المرتبطة بإدارة التغيي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r" rtl="1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ادراك الحاجه للتغيير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r" rtl="1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صياغة الرؤية والرسالة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r" rtl="1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اختيار نموذج التغيير ومساراته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r" rtl="1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تكوين الاستراتيجية الجديدة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r" rtl="1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تعبئة الالتزام من خلال حضارة المنظمة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r" rtl="1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ادارة الفترة الانتقالية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أ. منار الفرا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9155C-0C56-4153-B6CA-6D74E2B37BD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تنمية القيادة الإدارية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r" rtl="1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</a:rPr>
              <a:t>هناك اجماعا بين الكتاب حول النقص الحاد في القيادة الإدارية، وخللا في تعليم القادة وتدريبهم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r" rtl="1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</a:rPr>
              <a:t>نقط الضعف في برامج التدريب للقادة: حسب جيمس بولت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r" rtl="1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</a:rPr>
              <a:t>تدريب غير متكامل. يفترض أن يركز على الأبعاد الثلاثة: الفنية ، الإنسانية، الأخلاقية. لكن التركيز على البعد الفني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r" rtl="1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</a:rPr>
              <a:t>تدريب سريع من خلال برامج قصيرة، تكوين القادة عملية مستمرة وطويلة الأجل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r" rtl="1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</a:rPr>
              <a:t>تدريب متقادم يركز على القضايا التي تخص القرن ال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r" rtl="1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</a:rPr>
              <a:t>يركز التدريب على المهارات الإدارية التقليدية. يجب أن يركز على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r" rtl="1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</a:rPr>
              <a:t>الظروف السوقية الحالية في طل التغيرات العالمية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r" rtl="1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</a:rPr>
              <a:t>الفعالية الشخصية والمهارات الجديدة المطلوبة للامتياز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r" rtl="1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</a:rPr>
              <a:t>تنمية الثقة الذاتية اللازمة لإدارة المنظمة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أ. منار الفرا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60FBC-60D5-4DBC-8EFF-6243DF09706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ما يجب أن تشمله برامج اعداد القادة للقرن ال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 algn="r" rtl="1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الرؤية والرسال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 algn="r" rtl="1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بناء حضارة الانجاز وتكوين المنظمة التي تتعل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 algn="r" rtl="1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تكوين الاستراتيجية والتحليل الرباعي والتميز التنافسي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 algn="r" rtl="1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بناء الهيكلة التنظيمي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 algn="r" rtl="1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إعادة الهندس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 algn="r" rtl="1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اختيار وتدريب وتحفيز وتمكين الموارد البشري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 algn="r" rtl="1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التغيير الذاتي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 algn="r" rtl="1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ما هي الموضوعات التي تقترح التركيز عليها في برامج اعداد قادة القرن ال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21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أ. منار الفرا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B30D3-7B38-47AA-8E6B-DE8438CE98C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الفرق بين القيادة والإدار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فرق ماكنزي بين القيادة والإدار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خصص القيادة لعنصر الناس، تهيئة الموظفين والإشراف عليهم ورقابته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خصص الادارة للتفكير في الأشياء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جعل ماكنزي صناعة القرارات عام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حسب الهواري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المدير يفعل الأشياء بطريقة صواب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القائد يفعل الأشياء الصواب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أ. منار الفرا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3C3AE-3FC2-4E95-ACCF-12826EEE0B5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الفرق بين القيادة والإدار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حسب كوتر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1187280" y="2421000"/>
          <a:ext cx="7415280" cy="3902040"/>
        </p:xfrm>
        <a:graphic>
          <a:graphicData uri="http://schemas.openxmlformats.org/drawingml/2006/table">
            <a:tbl>
              <a:tblPr/>
              <a:tblGrid>
                <a:gridCol w="2471760"/>
                <a:gridCol w="3362400"/>
                <a:gridCol w="1581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قياد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ادار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عناص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تحديد الاتجاه: تنمية رؤية مستقبلية بعيدة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التخطيط والموازنات: وضع الخطوات التنفيذية والبرامج الزمني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نقاط الاهتما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توجيه البشر: الاتصال بالكلمة والفعل للتأثير وخلق روح الفري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تنظيم وتهيئة الموارد البشرية: الهيكل التنظيمي- السلطة والمسئولية، التفويض والسياسات والإجراءات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تنمية الشبكة الادارية اللازم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التحفيز والإلهام: اشباع حاجاتهم الانساني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الرقابة وحل المشكلات: المتابعة التفصيلية للتنفيذ وتحديد الانحرافات من أجل التصحي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تنفي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يحقق تغييرات أحيانا جوهرية مثل سلع جديدة يريدها المستهلك، علاقات طيبة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أن يحقق قدرا من النظام لتحقيق النتائج المتوقع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مخرجات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أ. منار الفرا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F483B-FC96-4402-B6AD-F375A2B80E1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المدير والقائد حسب الهواري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685800" y="1981080"/>
          <a:ext cx="7772400" cy="453240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قائ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مدي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6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يفك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يضع الرؤ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يعبئ الطاقات ويبني روح الفريق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يحفز معنويا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يتعامل مع البش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يدير بالمعاني والآمال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يبحث عن الجدي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انفعالي مليء بالمشاع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يشرك المرؤوسين في اتخاذ القرارات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محفز ذاتيا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ينف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يخط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ينظم ويحدد الاختصاصات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يكافي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يتعامل مع النظم والأشيا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يدير باللوائ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يدير بالسوابق والمألو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موضوعي منضب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يتخذ القرارات وربما يشرحها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ar-S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محفز من خارجة: تحفيز مصطن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أ. منار الفرا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1A9DE-0018-4392-9806-CB6AF72C20B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مصفوفة القيادة/الادارة : لجون كوت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قائد قوي ومدير قوي                   قائد قوي ومدير ضعي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</a:t>
            </a:r>
            <a:r>
              <a:rPr b="0" lang="ar-SA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ar-SA" sz="1600" spc="-1" strike="noStrike">
                <a:solidFill>
                  <a:srgbClr val="000000"/>
                </a:solidFill>
                <a:latin typeface="Times New Roman"/>
              </a:rPr>
              <a:t>- الرؤية منفصلة عن الواق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</a:t>
            </a:r>
            <a:r>
              <a:rPr b="0" lang="ar-SA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ar-SA" sz="1600" spc="-1" strike="noStrike">
                <a:solidFill>
                  <a:srgbClr val="000000"/>
                </a:solidFill>
                <a:latin typeface="Times New Roman"/>
              </a:rPr>
              <a:t>- توجية الأفراد الى هدف دون تنظيم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</a:t>
            </a:r>
            <a:r>
              <a:rPr b="0" lang="ar-SA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ar-SA" sz="1600" spc="-1" strike="noStrike">
                <a:solidFill>
                  <a:srgbClr val="000000"/>
                </a:solidFill>
                <a:latin typeface="Times New Roman"/>
              </a:rPr>
              <a:t>- الاستراتيجيات ينقصها التخطيط الرسمي        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القياد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قائد ضعيف ومدير قوي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0000"/>
                </a:solidFill>
                <a:latin typeface="Times New Roman"/>
              </a:rPr>
              <a:t>- تتجه العمليات نحو البيروقراطي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ar-SA" sz="1600" spc="-1" strike="noStrike">
                <a:solidFill>
                  <a:srgbClr val="000000"/>
                </a:solidFill>
                <a:latin typeface="Times New Roman"/>
              </a:rPr>
              <a:t>- التخصص الزائد                                         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قائد ضعيف ومدير ضعي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ar-SA" sz="1600" spc="-1" strike="noStrike">
                <a:solidFill>
                  <a:srgbClr val="000000"/>
                </a:solidFill>
                <a:latin typeface="Times New Roman"/>
              </a:rPr>
              <a:t>- مزيد من السياسات والإجراءات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ar-SA" sz="1600" spc="-1" strike="noStrike">
                <a:solidFill>
                  <a:srgbClr val="000000"/>
                </a:solidFill>
                <a:latin typeface="Times New Roman"/>
              </a:rPr>
              <a:t>- نظم الرقابة تصطدم بالابتكار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0000"/>
                </a:solidFill>
                <a:latin typeface="Times New Roman"/>
              </a:rPr>
              <a:t>                                             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الادار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340000" y="5445000"/>
            <a:ext cx="475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187280" y="2276280"/>
            <a:ext cx="0" cy="295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أ. منار الفرا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61086-AC7E-4CC6-ABFC-55A7CE2936A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أساليب القيادة التبادلية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ansactio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7276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يستخدم اسلوب التدعيم الشرطي ويقبل المرؤوسين بذلك. اذا فعلت كذا تأخذ مكافأة كذا أو تتجنب عقاب كذا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للتدعيم المشروط مزايا حسب الدراسات السابقة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-572760" algn="r" rtl="1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رفع أداء المرؤوسين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-572760" algn="r" rtl="1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تحسين الرضا الوظيفي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-572760" algn="r" rtl="1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تخفيض مخاطر الدور الوظيفي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أسلوب المدير التبادلي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-572760" algn="r" rtl="1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يوضح العمل المطلوب من المرؤوسين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-572760" algn="r" rtl="1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وهذا يبني ثقة عن المرؤوسين لمعرفتهم المسبقة بالمطلوب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-572760" algn="r" rtl="1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يعترف بحاجات المرؤوسين ويبين كيفية اشباعها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-572760" algn="r" rtl="1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هذه الترتيبات تشجع المرؤوسين على القيام بالنتائج المتوقعة منه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أ. منار الفرا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23BB8-E9EB-4E1F-931A-BD61B5BD3FD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أساليب القيادة التبادلية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ansactio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أساليب المدير التبادلي بين الايجابية والسلب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أولا: الأساليب الايجابية وتشمل أسلوبين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 algn="r" rtl="1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الإدارة بالاستثناء: يتم التدخل عندما تسوء الأحوال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 algn="r" rtl="1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الجزاء الشرطي: المكافأة مرتبطة بتحقيق الأهداف، اعطاء التسهيلات اللازمة للمرؤوسين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ثانيا:الأساليب السلبية وتشمل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 algn="r" rtl="1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التدعيم السلبي المشرو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 algn="r" rtl="1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ع الأمور تجري كما تجري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أ. منار الفرا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E6FFC-E07F-48AB-ADB7-5AC58415864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أسباب عدم فعالية القيادة التبادلي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566640" indent="-566640" algn="r" rtl="1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نقص مهارة القائد في استخدام نظم التدعيم الايجاب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 algn="r" rtl="1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نظم تقييم للأداء غير سليم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 algn="r" rtl="1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غير قادر على تقديم الحوافز الايجابية للمرؤوسين بسبب محدودية الموارد أو لخضوعها لقواعد خارجة عن سلطته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 algn="r" rtl="1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ضغوط العمل قد لا تسمح بالتقييم الجيد أو التطبيق الايجابي للشروط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 algn="r" rtl="1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استخدام نظم التدعيم السلبي غير فعالة على المدى البعيد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أ. منار الفرا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64CA9-3706-4BA2-A20E-4D8F2AB1728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ضرورة توفر نوع جديد من القاد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نحن نحتاج الى قيادة من نوع جديد تناسب الواقع الجديد. قيادة تقبل التغيير وتتأقلم حسب الواقع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ان القيادة التي تحب التغيير هي القيادة التحويلية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ان أهم ما يميز قادة منظمة القرن ال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21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 أنهم يحبون التغيير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أ. منار الفرا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E2D9A-4177-474D-9C55-98C0E6B2B0F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rayah</cp:lastModifiedBy>
  <dcterms:modified xsi:type="dcterms:W3CDTF">2006-10-27T21:16:24Z</dcterms:modified>
  <cp:revision>28</cp:revision>
  <dc:subject/>
  <dc:title>PowerPoint Presentation</dc:title>
</cp:coreProperties>
</file>